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CC9-F067-4E3F-A621-A8E91A3F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32A-9985-4978-AC48-FE4C9C73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1C3-C70D-4470-BB01-CA84AFA0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8DC-EAED-4410-B539-1CCE6042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FF18-070C-44F0-98EF-5C493A6C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81CA-BC0F-498B-861C-02C9D471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03C4-D947-49F5-8626-88D82339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910F-B794-4B34-A689-10AA1000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1AD2-75AD-41EC-B5F7-66E35D38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E0DE-900D-405B-ACBF-05CABF4B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4513-E589-4E2C-9C3E-C18F0B08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FBB-D651-4AFF-BEAC-F92DADDD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4B8A-15A9-43B2-ABA1-B18B7D3C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495A-EE15-402A-BBBC-CD619C2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98A7-D4F0-4ECC-9982-2D782BA5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3673-8358-4D36-A03D-DA91982C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B8BE-AEF9-465A-A6BF-ADC11BEC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BEC-FAFA-4DE2-AA9E-5558CFA4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274-478F-45E5-88A4-375DFAB0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32F-BE11-48BE-92CA-0E8D6E0F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2C2-B55D-46FF-926A-083DB676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829-C713-467C-BBD1-9908FCF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229-393E-48A4-B361-E9CF4A19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CC9-AF64-4A04-BD9B-0665DF4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511E-27D9-4534-831F-C36AAA6A2E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8881-426A-45E0-BA22-25D3546BED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enesis 31 – 33:17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o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pplanter In Beersheba – 25:19 – 28: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rth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l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rvant In Padan-Aram – 28:10 – 30:4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hel – House of God  28:10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h and Rachel; Lab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Haran To Hebron -31:1 – 35:2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o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 Meeting and Covenant of Jacob and Laban – 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hanaim –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ing with the ang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s to meet Es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iel – 32:22 – 33: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estling with Angel – 32:22-3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ing with Esau – 33:1-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23:19:49Z</dcterms:created>
  <dc:creator>Terry W. Benton</dc:creator>
  <dc:description/>
  <dc:language>en-US</dc:language>
  <cp:lastModifiedBy>Terry W. Benton</cp:lastModifiedBy>
  <dcterms:modified xsi:type="dcterms:W3CDTF">2004-09-04T23:36:45Z</dcterms:modified>
  <cp:revision>2</cp:revision>
  <dc:subject/>
  <dc:title>Genesis 31 – 33:17</dc:title>
</cp:coreProperties>
</file>